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3DE9-7C22-4FBE-9F1A-F585CED2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5E03-083B-41B6-A93D-3DE8536F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179E-7DCF-43B3-8B61-10DF57DD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8A38-0F30-4B80-B863-428ACB3D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E553-AB7C-4427-8BF2-A006DF3A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A3F6-D94F-4DB4-8499-253136EA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7BAB-B76B-4081-8D1E-80E55322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378C-0BEF-4948-8C47-C1BE3170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0EC0-4E11-434A-9617-4B86C056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9F80-B473-4B41-8C75-9C9A1254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494A-2BD2-4AE0-828E-BE67F3CC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1BF7-A667-44C7-8CFC-6B7D8EE6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05354-AE0A-4A35-9361-9816F27FA0B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720720"/>
            <a:ext cx="8820360" cy="59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539640"/>
            <a:ext cx="937260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600" spc="-1" strike="noStrike" u="sng">
                <a:solidFill>
                  <a:srgbClr val="ff0000"/>
                </a:solidFill>
                <a:uFillTx/>
                <a:latin typeface="Arial"/>
              </a:rPr>
              <a:t>A CIGARRA E AS FORMIG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um belo dia de inverno as formigas estavam tendo o maior trabalho para secar suas reservas de trigo. Depois de uma chuvarada, os grãos tinham ficado completamente molhados. De repente aparece uma cigarr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57520" y="1552680"/>
            <a:ext cx="610380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r favor, formiguinhas, me dêem um pouco de trigo! Estou com uma fome danada, acho que vou morr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00360" y="3780000"/>
            <a:ext cx="1863720" cy="1800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78360" y="3711600"/>
            <a:ext cx="1809720" cy="158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39760" y="984240"/>
            <a:ext cx="6419880" cy="33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s formigas pararam de trabalhar, coisa que era contra os princípios delas, e perguntara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- Mas por quê? O que você fez durante o verão? Por acaso não se lembrou de guardar comida para o invern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20720" y="4140360"/>
            <a:ext cx="4319640" cy="26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20720" y="633240"/>
            <a:ext cx="83358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ara falar a verdade, não tive tempo – respondeu a cigarra. – Passei o verão cantando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- Bom... Se você passou o verão cantando, que tal passar o inverno dançando? – disseram as formigas, e voltaram para o trabalho dando ris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0360" y="3780000"/>
            <a:ext cx="91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ral: Os preguiçosos colhem o que merec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49720" y="4049640"/>
            <a:ext cx="1809720" cy="1581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443720" y="4610160"/>
            <a:ext cx="87624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21:30:19Z</dcterms:created>
  <dc:creator/>
  <dc:description/>
  <dc:language>en-US</dc:language>
  <cp:lastModifiedBy/>
  <dcterms:modified xsi:type="dcterms:W3CDTF">2010-11-25T22:30:05Z</dcterms:modified>
  <cp:revision>2</cp:revision>
  <dc:subject/>
  <dc:title/>
</cp:coreProperties>
</file>